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1C3-94B6-4498-AC40-187A3A81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50B-0CF5-481C-9741-172AF50F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2A5-8373-40EA-846B-7D1A3A0C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81E-1DE3-47EC-B4BE-E7CCF79D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3A8-1DBF-40E2-967B-6117D885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F10-6DC4-42AF-AF70-5E73BC3F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DEB-AAFA-4A02-90DA-A7315AD7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C99-FC0E-4B0B-8F39-1D7105D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3C1-3A92-41BE-AA2E-BDB9FDBB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D4C-D19A-453B-90BE-999D59E1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9D3-5AB8-430D-83EE-67298EB4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EDD-0C65-4287-84EB-9F9C50B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B4FCD-8934-4709-9577-7D91FA3C0B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3080" y="2519280"/>
            <a:ext cx="4425840" cy="3935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80000" y="3240000"/>
            <a:ext cx="360036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400" spc="-1" strike="noStrike" u="sng">
                <a:solidFill>
                  <a:srgbClr val="c5000b"/>
                </a:solidFill>
                <a:uFillTx/>
                <a:latin typeface="Century Schoolbook L"/>
              </a:rPr>
              <a:t>A  CIGARRA E A FORM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19640" y="809280"/>
            <a:ext cx="442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2300dc"/>
                </a:solidFill>
                <a:latin typeface="Arial"/>
              </a:rPr>
              <a:t>Era uma vez uma formiguinha e uma cigarra muito amig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8080"/>
                </a:solidFill>
                <a:latin typeface="Arial"/>
              </a:rPr>
              <a:t>Durante todo o outono a formiguinha trabalhou sem parar a fim de armazenar comida para o período  de inver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Não aproveitou nada do sol, da brisa suave do fim da tarde e nem da conversa com os amigos ao final do expediente de trabalho para tomar uma cerv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2735280"/>
            <a:ext cx="442584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9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9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9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3280" y="2295360"/>
            <a:ext cx="4425840" cy="3935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b80047"/>
                </a:solidFill>
                <a:latin typeface="Arial"/>
              </a:rPr>
              <a:t>Seu nome e sobrenome eram trabal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ff950e"/>
                </a:solidFill>
                <a:latin typeface="Arial"/>
              </a:rPr>
              <a:t>Enquanto isso, a cigarra só queria saber de cantar nas rodas de amigos, nos bares da c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cccc00"/>
                </a:solidFill>
                <a:latin typeface="Arial"/>
              </a:rPr>
              <a:t>Não desperdiçou um minuto sequer, cantou durante todo o outono, dançou, aproveitou o sol, curtiu para valer sem se preocupar com o inverno que estava por v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3280" y="2301840"/>
            <a:ext cx="4425840" cy="3922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00ffff"/>
                </a:solidFill>
                <a:latin typeface="Arial"/>
              </a:rPr>
              <a:t>Então, passados alguns dias, começou a esfriar.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2300dc"/>
                </a:solidFill>
                <a:latin typeface="Arial"/>
              </a:rPr>
              <a:t>Era o inverno que estava começa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0099ff"/>
                </a:solidFill>
                <a:latin typeface="Arial"/>
              </a:rPr>
              <a:t>A formiguinha exausta entrou em sua singela e aconchegante toca, repleta de com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c5000b"/>
                </a:solidFill>
                <a:latin typeface="Arial"/>
              </a:rPr>
              <a:t>Mas, alguém chamava por seu nome do lado de fora da toca e quando abriu a porta para ver quem era, ficou surpresa com o que viu.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3280" y="1962000"/>
            <a:ext cx="4425840" cy="4602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cccc00"/>
                </a:solidFill>
                <a:latin typeface="Arial"/>
              </a:rPr>
              <a:t>Pois a Formiga estava sorrindo a toa da cigarra, que cantava muito mais contente e sorrid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ff00ff"/>
                </a:solidFill>
                <a:latin typeface="Arial"/>
              </a:rPr>
              <a:t>Pois desta vez ela tinha recebido ajuda de gafanhotos que a encheram de m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666600"/>
                </a:solidFill>
                <a:latin typeface="Arial"/>
              </a:rPr>
              <a:t>E ainda a convidaram para cantar no show de Zezé di Camargo e Lucian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000080"/>
                </a:solidFill>
                <a:latin typeface="Arial"/>
              </a:rPr>
              <a:t>KKK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163080"/>
            <a:ext cx="90709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400" spc="-1" strike="noStrike" u="sng">
                <a:solidFill>
                  <a:srgbClr val="c5000b"/>
                </a:solidFill>
                <a:uFillTx/>
                <a:latin typeface="Century Schoolbook L"/>
              </a:rPr>
              <a:t>A CIGARRA E ZEZÉ E LUCIANO AO VIV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20720" y="2700360"/>
            <a:ext cx="8640720" cy="4140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92720" y="176004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47:51Z</dcterms:created>
  <dc:creator/>
  <dc:description/>
  <dc:language>en-US</dc:language>
  <cp:lastModifiedBy/>
  <cp:revision>1</cp:revision>
  <dc:subject/>
  <dc:title/>
</cp:coreProperties>
</file>